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690-93B7-4357-B986-895C870C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08B-4BCC-4880-8699-924785F9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C1D89-3801-4110-B827-692FECAA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20353-80A0-4668-AD38-121A711E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4397C-DF6B-4113-8397-17DE785D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A97BB-2BBC-44F7-8C86-0289D23B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7061F-0A6D-4CAC-9A36-0DFCE813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44B7D-7A16-4C3F-8C85-3197DF8B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0361F-6BBF-486D-8CB8-72ADDA98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18487-C6CD-47C6-9648-6D23E325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35688-DED5-4821-9BDF-BDAF592B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8CB16-244B-45D1-A40C-EA0B5943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7C4-D774-4327-A680-D030BAF9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A9BE3-7AAA-47E6-B382-C6AEF833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4C043-92B3-4865-985C-650349C1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C6A87-985C-46CF-8654-A95799E8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0734C-96E4-49D4-9D0F-989DC8AB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8A530-7B4A-4A9E-9BBC-F8FC4C60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614DF-A0DE-4EE1-9ECC-917A4AD6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1B3E5-86CC-4A57-AA0D-CAE13ACF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AFEB1-8E1A-44C6-AE40-5DE4468C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30BED-24B7-4A37-A4C0-6F3C0E97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97CE7-DB6D-4870-9C38-B5337851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FD1-D6F8-4E7F-AB06-4FF330A0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45A6F-9294-43F0-A57C-056BF503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D97F1-9209-4DE3-ACA4-EB560C5C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CB9E4-59AB-4E04-82F0-8A5F2AFA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D5A44-86B2-4EE4-8435-18656965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67B4F-B710-4425-A4AA-C6DDD0A1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503AB-227A-4B2F-9078-74872921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D0E64-1306-4ADF-AAB1-C0DCA3F6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FA7E8-B506-4E24-B7C5-FE0F8127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BFFC7-0CD1-4979-BBE9-F1144B8B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6E5EA-2A2F-4664-A706-09DBF9D9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8E37-C43A-47E8-A1E6-C781173C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8F166-6255-4395-9C0F-3556C138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C3963-BBD1-47D6-9008-E50BB91C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277B1-8EB6-406A-B184-2C0ED539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DCF5D-6162-4D01-8444-30A6E186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FF606-5552-4C02-A425-9631DC3B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E98C4-D402-443B-BC15-ED6BA27C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1D2AE-C917-4D7E-9C5C-4FD7A775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2D7C9-0714-432F-AEB2-8AC444D0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53775-7CE3-4F91-A554-B2DD75BA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605A4-0088-4BE1-9DE3-8C1D6129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7822-3E01-44D1-B7E5-A05579A7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B03B7-BDBF-4075-9DA3-04D7650B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3E7FA-19AC-4F15-8390-7DEF16B4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941F0-D737-45A6-B35D-8F7E8752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853BB-0DC0-4C00-B881-46B0398D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FAC89-DBD3-4E99-8A9D-D302609B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B44E5-7885-4F98-9015-522F3674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02CD8-91FD-4BEE-952F-A1CB4E50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0EFDA-78E7-4A66-95A2-C1498CAD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81642-2411-4D96-BDEF-46F97C1E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307DD-1ED3-4C88-A78A-651076D3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C390-45BD-4EA6-A52A-C70D52AD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30F8D-519E-4512-BD97-1DB3F06C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50DBC-45AA-4780-88C9-FF73E97A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85816-2D86-49A3-8118-DC52CE0A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AAB2A-882E-4866-89C0-79B6A39E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B5331-E3F2-4E1B-B34B-7E7C3ED8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2177D-124B-4E91-BDD5-AA6BC40A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98273-12F9-4F59-8F34-9ECFA1AE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4CDC2-8C86-4DEB-A230-8F062902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7B9D1-47D5-4081-BDF4-B24F87A5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F7099-2A27-4D80-9A5B-9AB8F199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1A8B-4688-4DC4-8B8E-2AE12372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56465-7DA9-4CD3-BE81-33EB8B43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E6ACD-36B7-45AD-9ED9-30E518D0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2538C-5E46-4C8A-9A6B-C82CE142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A835D-4301-4B2D-A2DB-BCA70436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0B6D8-C50E-4444-9597-0A64C8B2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5D5D3-178B-4D18-B848-CB432530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5233BA-517A-473F-B864-3F03D4DF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DF080-BCB7-44E9-A0E5-28403458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E4010F-1AC0-4216-B6FE-285F4D6A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9CBF0D-3DB2-4992-9088-AF2F2E98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0DE8-2946-4203-97F0-9ECE6926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EA005-3765-4496-A445-1951D19E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05BBE-CB46-4441-A8B6-D0420EEA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AC651-36A0-41D9-822F-94102F8D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BEB93A-22C8-4BFA-B666-8947CFE5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65FB67-B80E-41B2-A0CE-4A984188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47401-7575-48F7-8569-231E1E4E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638527-6BC2-45A1-B3A6-5F5E41FD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628AB8-34CF-44B5-B38C-C92DBBA1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103FBC-34A7-40A3-8CEE-71EE097B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5373A9-FA4E-429F-BF08-8CD3C08B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18DE-A27B-40A1-B3E0-EAF9F113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43E518-1557-4A64-B56B-18E74573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3D24F0-EFBB-47CB-B122-FCA1B4D0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65CC15-58A9-4098-827A-E990F5B0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E0881-7C06-43C9-BA6A-640FBD18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E7F577-FAF1-47FE-A5F6-8D4FB2D8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E0A1D-746A-4890-8719-2450FCB5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55B00A-C43A-44A1-87E9-BB4BE8E0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2D1CD-6CA1-456D-8CCD-47606932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24C9EF-BE98-4AF9-8861-7C89361E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860B36-8EFB-43D3-B63A-6D85DA4F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04F9-4AAE-447C-8D09-2D1D8A7C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D7B4DE-E8BB-4885-AC42-BF70CC49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AF009-6FD0-4BDE-914C-7F7A098C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14F6A9-F2FC-4671-89A4-CF37B7F1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9E24D6-BA9E-45E2-8698-14CF5D5F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F3E7C9-AB8E-4182-8F33-6F2C6070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887E7E-3A8D-45D1-BCAC-24A41BF3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BDB829-3208-4041-9F32-C34DB77B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C715C5-17E7-4B36-9898-20099782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66B52C-B129-487A-AF4C-FF54EC19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81D0F6-8422-4290-8D10-E7F19883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827-226A-44B7-91E4-1AB18CCA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8752-B6B2-4140-B4C0-C08192C8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4BFF05-89B1-4AED-96CB-5093C514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DEEA34-B498-4E64-90E5-9F83B572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499BA-3E91-4DF8-80A3-41FB27E5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09C617-9ABC-45B9-AD79-4E985E97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499922-776F-4763-8B79-CBAF91BB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8E4133-68DF-4137-A7E1-EF7AF882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FD57FB-0CBE-4428-A544-025B8259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9B8A75-462F-4B39-8E0C-A75E712E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62E787-6B77-40CF-9BC4-BA9D8EE4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C67302-361D-4118-8F89-6C1CC3D6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79DB-4D75-421D-845C-F7E677A8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16E0E-8660-4D27-A237-368648E2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652F32-F60A-4E06-8981-6597ED41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94ECBF-7C8B-4A67-BEFB-50A99CD0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B431AE-23E4-477F-BEB3-392B6325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E920A7-4466-4048-B8F2-87833B2D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C9E098-CB5B-40B6-A23E-A6036776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27549-83BA-48FE-A807-AEF9F5DC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483BB3-12A0-4BC4-8557-4008BC93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616D22-93DD-49E1-AEF7-F00EC796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CF0833-6A7D-4D28-AA1C-86130BC6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AE01-218F-4A32-B2D2-A9228814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1FAB14-85AC-4331-942E-40F28A0E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531DD4-38FA-4575-BAE5-07892532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DA9832-2137-4650-8E9A-52F8EB9E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8911E6-BF4B-4117-AF20-B225E156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09DF3F-9877-48BD-8E34-7830BE32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41A734-53D8-43E8-8DD6-6F12BCBA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B7CFCC-6DDC-4047-B669-18B23CBA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FA02F8-16BB-423D-B6C3-6EF927AD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3EA729-EA90-449D-B72C-10B98E14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BD6657-DABC-4EAF-B3BB-220D671A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F0D2-876D-4BFC-A679-944486CA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C404C7-FD5E-455B-B490-95401EC1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E94BB8-6A5B-4609-BFC3-85D2FB14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FF6F6E-B636-45DB-B6DC-35180EF7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5D1963-1566-45DE-A774-B9D2F9EE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2D059B-C128-4FB0-A7C1-C5698EBB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7277F8-36D3-4667-8532-92F11B93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A16C1C-6644-41FE-AB4C-9ABDB46C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F14146-C65C-42BC-9604-B1CA1F6B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0F2968-738E-4FC4-B954-6373584B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E447B8-97D4-4A7B-8047-452780E4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0293-8AF3-4233-BA28-19430929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CA5B9D-7691-4904-A0B1-056E9AD2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5B0405-4725-4DB1-B01F-11F7174B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0229C7-EDF3-41EC-9C1A-F3CC51A6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CA9873-062F-43B1-B9A0-014C4CF4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91D767-48D8-4376-BBB5-EA09E975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8DE7AA-8E68-4D13-AAE8-9D8DDCF3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F438D8-56B7-4F11-AE06-B01A3E00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94833F-C43D-4171-97D6-22EDBA3B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0D1C6A-BB79-41CA-8F54-41A47AE4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277E82-B6DB-4200-BCCE-5632912D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B52D5-271A-45B3-8E39-8C7730BF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F08468-72E8-4286-A1F8-88F37A4A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C76F52-AEB8-4D6E-AF13-305E38BD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54AF4E-5765-4399-BC6C-D928E897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63424-BD0A-4052-93F4-D374F746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26BB-06C4-4E29-A91F-1C24D23F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D16E3-A6BE-4029-98E6-F316FBE7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BBC4E-736D-4095-AF8D-2DB8E4E4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01A-0F40-485B-8517-CA923408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9D36E-B7F4-4B8A-A212-379AF2B7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6DC1-C390-4783-8369-E09AADD6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545C6-7087-4477-A9FA-6A38229F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9FDEA-0DDA-4C20-8298-C9E5447F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C4029-4E36-488B-A481-56B1F322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7D69-8BEA-407F-99C6-54A21650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014A7-247D-4BAF-A512-ABE9CDFA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F1C89-8BFB-4043-B53A-647BB2B0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C141C-23DB-4D9A-8034-D6FF2567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E7063-1684-4C3F-8D90-DEDEBE7C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254-9979-4C9F-AAAD-2F0614B4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E19EC-5E58-4C7C-800B-DFC793E5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14473-8061-476A-ABE8-6A2E1243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3770D-50D5-49FC-8171-C3487CA9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7A8D9-F379-46D9-86E0-59027849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4069A-3E2C-41AC-BDA3-C68CE481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83287-6FEE-4706-BF67-D302A049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A6552-FA44-44AD-8A0D-5782CCAC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8952C-3D3F-49DB-90DF-DAA07B56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6C5A3-60C7-440D-9E78-C808778A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C45B3-AE88-4BC4-A3DF-7607F351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BB7-91B3-4A59-A1EE-B75441C6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D4359-D15A-4E67-813F-3C72BE02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C853C-02BF-4F64-91F4-6F3BC437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D453B-94F7-43F9-9F1C-E5EA3669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ABC3A-87E6-4249-9E90-B51EA244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C64F4-D698-4541-9A1C-1B214E96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71596-DDAC-4E61-AECF-3501EE5B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C9E9E-61F2-4B38-A9E1-E0D43CE6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48352-F863-42FC-85C9-1DDC827A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5B870-C952-48F4-BB5C-1E8FAF2D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D1853-F7CC-4CD7-AA57-B7355CDB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B8E6-1374-4A7E-8E81-BF13FE1E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F5072-F1C5-470C-870B-327385C3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ACB31-B14F-4724-887E-C9CDE403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38413-1C72-43CD-B618-62F690F1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7CFF9-B10C-4B36-BBBA-3CF0BD11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72166-2674-4FF2-8085-2E4A88A4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9DD62-E919-417E-82B3-1CEBCB9D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0F120-0CE7-4671-B5B5-1F7578A9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991EC-6A10-472C-9F29-DEA02DAE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AEC8C-B085-47FE-BCF6-CA44F3E3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0EDEF-2238-4408-9559-BFE4CD2D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BFE-1883-4553-BD86-8455C17A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C36D2-24DD-4551-82E3-8993FB3B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DB628-B895-4331-8684-4F1DBB9A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3BE23-10E3-4CB5-95DA-69B822C5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A13CC-47B4-4EC2-AD72-06A110EA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45C29-03D3-4BEE-BF20-C7EC45D9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CF2F7-F696-4521-84DF-7D78FFFD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48D57-0692-4D17-AD2B-B079F9E5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B272A-DFA5-4F82-B14A-705C6F5B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82493-7D7F-4020-A7EC-726536F7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10213-56F4-49A7-8517-4B09EEB8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51E-4053-4C24-84C3-1458716F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21F3F-3550-4BCE-8E26-A138CC69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2943A-3D72-40A0-BBE7-4E3066DD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677B1-3607-489B-A284-9787535B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9AC7B-9B13-4446-8A13-7B7B40A1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3724C-A971-45FD-ABD4-E47D3BA3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AF13A-4AA8-495E-8527-4170749F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1F07A-7E59-4419-B358-D88AF773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C0819-D322-45A5-9F3C-7D32FD7A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8E1BA-EAF4-478D-BB16-D0BE6187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DA366-0C4F-4407-B139-4F205A9F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EA4-EFB2-430D-B3DC-227BACB8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16BB1-F50C-49CE-9C59-A056BDDB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BC1A0-1193-44A4-81A7-738F14E4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0ACDD-2DD4-4E00-BF27-DF63E3C2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196B6-7F8F-4315-BC4E-8F5996E2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BD51B-2D4F-45AC-A402-FA43472E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5DF93-E71E-4B0D-8088-B2BA2C18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EDF8F-9B10-44CE-9F34-31B822C7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2681A-C5CC-4C19-9C90-EF31C755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3BA64-597C-46C0-942E-2DE57A9C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31875-1E5F-4FF9-93AE-4F839170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92E3-7468-40DD-97E1-AFDBAAEFA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8FC9-2CE3-4AD7-852C-51A0C86BF8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F681-2E1F-4852-898B-E9BB6A8720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A946-74DC-44C4-9E50-FF6500EE6C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2F98-1F6E-48AF-AC79-CB192552B6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99F4-D9F5-4676-81DB-397C6967FE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D0A1-956D-4B6F-BDA3-C54E830E66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450B-1CF7-495D-863C-BBC9BCCFC8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4361-EED0-4CFA-89D1-CD92DA7030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CA90-4175-4625-B952-D2DCEA495F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CA65-7EBB-4A3F-8E31-98C5698554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1EA2-F4D0-4FCE-9B2E-A25C535AEC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8F46-F9C9-42AE-9B44-2021EF42DA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F7F9-979D-4C19-8E51-D2C2BC177C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79CF-1B12-49B0-873D-2846BF3E89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2313-28D6-45C4-A61D-AB8CD8E7F7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8E35-F3AD-482A-B1E7-3505C97C18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5734-04CE-408B-B01B-E9B4DAFE61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C47A-6477-4A36-9E4D-6D27153D72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4121-875B-44CF-831F-5A1F00FA60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8C0E-E229-4C3E-9B4E-9B9AA63252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F980-47B1-4090-AD46-4FEC3420F4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ACB8-E8B2-4E5E-8D8E-7D5F4F53A4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BF21-0B2A-4588-8833-0B6945B935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FE75-6056-4C08-B606-B63DE48912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4864-965E-4F0A-9C10-5508047332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4A3B-E8BB-44C0-B5DF-AB6EC2CC0D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0206-C164-422E-B6D7-4AB99E2DC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4CE5-C228-4F8D-88C3-8E392D45DB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864A-3728-43EF-8639-0695CD31A3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8B67-1AE9-46EB-9B6D-1DDA299F47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3F24-08C7-4FEB-8DF9-77F287F6BA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8C53-E37B-4D09-8FE9-28406893B1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CE6D-A549-4BFD-A10D-EDB20497B3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1604-FB30-463B-95C3-1FEAE1F551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AAFD-9E0A-4A49-BD39-44E1B42A63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6FD9-0569-457A-88FC-C6C42DECF1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F000-2060-4126-A324-D379E0CFD1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51E2-D61E-4D72-8444-C85EDCAE54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526C-2F24-49BD-B6C8-12CF62A4F3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1" descr=""/>
          <p:cNvPicPr/>
          <p:nvPr/>
        </p:nvPicPr>
        <p:blipFill>
          <a:blip r:embed="rId1"/>
          <a:stretch/>
        </p:blipFill>
        <p:spPr>
          <a:xfrm>
            <a:off x="990720" y="2690640"/>
            <a:ext cx="7162560" cy="14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2" descr=""/>
          <p:cNvPicPr/>
          <p:nvPr/>
        </p:nvPicPr>
        <p:blipFill>
          <a:blip r:embed="rId1"/>
          <a:stretch/>
        </p:blipFill>
        <p:spPr>
          <a:xfrm>
            <a:off x="452520" y="1104840"/>
            <a:ext cx="8238960" cy="464832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1000080" y="1928880"/>
            <a:ext cx="1714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1071720" y="2714760"/>
            <a:ext cx="3143160" cy="39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1108080" y="3522600"/>
            <a:ext cx="171432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5"/>
          <p:cNvSpPr/>
          <p:nvPr/>
        </p:nvSpPr>
        <p:spPr>
          <a:xfrm>
            <a:off x="1143000" y="4321080"/>
            <a:ext cx="250020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6"/>
          <p:cNvSpPr/>
          <p:nvPr/>
        </p:nvSpPr>
        <p:spPr>
          <a:xfrm>
            <a:off x="1071720" y="5143680"/>
            <a:ext cx="6572160" cy="399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395280" y="781200"/>
            <a:ext cx="835344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19040" y="824040"/>
            <a:ext cx="8305920" cy="5209920"/>
          </a:xfrm>
          <a:prstGeom prst="rect">
            <a:avLst/>
          </a:prstGeom>
          <a:ln w="0">
            <a:noFill/>
          </a:ln>
        </p:spPr>
      </p:pic>
      <p:sp>
        <p:nvSpPr>
          <p:cNvPr id="1025" name="矩形 2"/>
          <p:cNvSpPr/>
          <p:nvPr/>
        </p:nvSpPr>
        <p:spPr>
          <a:xfrm>
            <a:off x="928800" y="28576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"/>
          <p:cNvSpPr/>
          <p:nvPr/>
        </p:nvSpPr>
        <p:spPr>
          <a:xfrm>
            <a:off x="928800" y="35719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4"/>
          <p:cNvSpPr/>
          <p:nvPr/>
        </p:nvSpPr>
        <p:spPr>
          <a:xfrm>
            <a:off x="928800" y="4429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5"/>
          <p:cNvSpPr/>
          <p:nvPr/>
        </p:nvSpPr>
        <p:spPr>
          <a:xfrm>
            <a:off x="928800" y="5214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"/>
          <p:cNvPicPr/>
          <p:nvPr/>
        </p:nvPicPr>
        <p:blipFill>
          <a:blip r:embed="rId1"/>
          <a:stretch/>
        </p:blipFill>
        <p:spPr>
          <a:xfrm>
            <a:off x="623880" y="1014480"/>
            <a:ext cx="7896240" cy="4829040"/>
          </a:xfrm>
          <a:prstGeom prst="rect">
            <a:avLst/>
          </a:prstGeom>
          <a:ln w="0">
            <a:noFill/>
          </a:ln>
        </p:spPr>
      </p:pic>
      <p:sp>
        <p:nvSpPr>
          <p:cNvPr id="1030" name="矩形 2"/>
          <p:cNvSpPr/>
          <p:nvPr/>
        </p:nvSpPr>
        <p:spPr>
          <a:xfrm>
            <a:off x="1071720" y="1000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3"/>
          <p:cNvSpPr/>
          <p:nvPr/>
        </p:nvSpPr>
        <p:spPr>
          <a:xfrm>
            <a:off x="1071720" y="1857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4"/>
          <p:cNvSpPr/>
          <p:nvPr/>
        </p:nvSpPr>
        <p:spPr>
          <a:xfrm>
            <a:off x="1071720" y="2571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5"/>
          <p:cNvSpPr/>
          <p:nvPr/>
        </p:nvSpPr>
        <p:spPr>
          <a:xfrm>
            <a:off x="1071720" y="33577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"/>
          <p:cNvSpPr/>
          <p:nvPr/>
        </p:nvSpPr>
        <p:spPr>
          <a:xfrm>
            <a:off x="1143000" y="4214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7"/>
          <p:cNvSpPr/>
          <p:nvPr/>
        </p:nvSpPr>
        <p:spPr>
          <a:xfrm>
            <a:off x="1071720" y="50007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8296200" cy="5648040"/>
          </a:xfrm>
          <a:prstGeom prst="rect">
            <a:avLst/>
          </a:prstGeom>
          <a:ln w="0">
            <a:noFill/>
          </a:ln>
        </p:spPr>
      </p:pic>
      <p:sp>
        <p:nvSpPr>
          <p:cNvPr id="1037" name="矩形 2"/>
          <p:cNvSpPr/>
          <p:nvPr/>
        </p:nvSpPr>
        <p:spPr>
          <a:xfrm>
            <a:off x="7072200" y="25146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"/>
          <p:cNvSpPr/>
          <p:nvPr/>
        </p:nvSpPr>
        <p:spPr>
          <a:xfrm>
            <a:off x="2143080" y="3714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4"/>
          <p:cNvSpPr/>
          <p:nvPr/>
        </p:nvSpPr>
        <p:spPr>
          <a:xfrm>
            <a:off x="3929040" y="4572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238960" cy="7905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471600" y="2652840"/>
            <a:ext cx="8200800" cy="1552320"/>
          </a:xfrm>
          <a:prstGeom prst="rect">
            <a:avLst/>
          </a:prstGeom>
          <a:ln w="0">
            <a:noFill/>
          </a:ln>
        </p:spPr>
      </p:pic>
      <p:sp>
        <p:nvSpPr>
          <p:cNvPr id="1042" name="矩形 3"/>
          <p:cNvSpPr/>
          <p:nvPr/>
        </p:nvSpPr>
        <p:spPr>
          <a:xfrm>
            <a:off x="1857240" y="15717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4"/>
          <p:cNvSpPr/>
          <p:nvPr/>
        </p:nvSpPr>
        <p:spPr>
          <a:xfrm>
            <a:off x="1785960" y="3000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476280" y="1109520"/>
            <a:ext cx="819144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423720" y="795240"/>
            <a:ext cx="829656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30556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6:3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